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8.png" ContentType="image/png"/>
  <Override PartName="/ppt/media/image1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EA8-28DE-470E-9B71-8B143083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196-192D-46A8-B517-2F10A2FA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C0388-C8AE-402F-A033-98C603AD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0AF23-D4DC-4087-8516-7C2E1E0B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A65C3-628E-4B07-A40D-20FC3C2A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757A1-DC4D-4A2C-BECD-17728B07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8AA22-EE8D-409D-838D-26F5008C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3BBE6-7724-4E06-B126-80E29B45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DC057-F987-48A4-B673-67C25DE8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5D434-4C81-4C7D-939F-9EB2D2B4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43AC1-EB4C-4CE3-BA28-EDE0FDD8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97E23-3B6E-435B-A129-617175F9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4CE-F243-47E3-AFFE-C84A6DB0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6FE37-5975-450F-A35B-4EFAD806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F5D53-77DC-4416-9F0C-75DA4223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F0D4A-55F1-4DB1-A56F-44D69BC2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9F378-700D-4F10-85D8-F86EBF83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DC1F0-3B92-430C-9C51-E5C81355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C5569-E389-41F5-85E3-86A419EE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6B066-B877-4EF8-B024-C2DBB567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51F9A-853C-46D7-9E42-50AAD2D2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3BF70-9A82-4B01-9D9F-04A0E61C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38B55-4538-4692-A2E5-459C5FB3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1B12-CF57-4533-8214-491BE534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47FA6-70EF-4A12-8473-9C89BB85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72933-AE0F-4460-B683-FA9BCFC3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AE3F6-5261-4AFF-8D5B-26E0D48F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8E007-2B8F-4FCC-BFD7-BA271BE7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DB32A-7E03-4ACB-99C4-7DC44D20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BB631-624B-4913-B624-2331D2E8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573A7-3691-4BC1-B769-CD26D941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5BACF-7BB8-424C-A8E2-C4C0AA58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BB3BE-EF1A-4393-994D-0DF9F96F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B234E-7B12-46EF-B167-29C649CB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A6E8-FCC8-458D-9434-354A8C81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B0697-D2A7-48A8-9DD7-FB0D7CBE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0D6E4-01F5-4A4D-A5A7-A7E4EC8F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871B9-643B-41DE-95F4-38A36A84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97994-315D-49D5-A6A8-DB178AB0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8CC7D-E6BA-4B62-9661-59C7609A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611C3-754B-4BC3-A9AD-08C1FFE3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55143-131C-4E68-BACF-AB09EC40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D219B-A83F-44E7-8D97-092AF52D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D01B8-D847-4F89-BDDE-FAEDD239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07D6C-4081-478E-B54E-F7E0D3D9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3136-C8BB-4E32-A9FB-C631BB73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B2641-9191-4DE3-85A7-B317CB98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5B7EE-9AC2-427B-A13E-B4F7463E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BBA92-B939-484F-9C5D-1478F6DF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06D1A-0398-4C75-8CE8-C2DEA586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47D3E-C1A5-48BF-B531-487D818F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B722-81D3-4C74-BE91-E3FDBF06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8457-A20F-4DA7-90FB-D5EA9154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534E-751D-4E28-BC2F-93688486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5ACF-0B47-41CC-9DB0-8287E892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E769-E28B-4D9C-BFBC-61B03CFF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102D-9538-47BA-B565-582B9B9D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A19C-1D5F-405C-90B5-60FEB2A8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A3C3-B6AC-48EB-B3B4-D7DD3FB5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C89E-051F-46D1-B716-BA0C0E97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9BEA-1A73-4774-AD41-111EA9A7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8BD4-3D56-442B-B7CD-307A3ED2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C9431-5161-4BD0-9E93-B95ABBCE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E1DF6-E6CF-416A-9759-50E71D3C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7D049-D6BD-44AF-A5D3-DD18D27C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29799-BB94-4BEB-9058-F8A2F991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6C2AA-8301-48F7-9635-51111B79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496-16C9-405C-BF96-3AAAF6D0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C13D6-657F-4CDE-853C-D1754780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DC6A2-3556-407F-AF0A-20D81E25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72F03-C3E6-45FA-B30C-7D247219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7A0CA-F611-4F55-9691-A49CB8EE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88B26-2278-4868-A388-4D3025AC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01689-C484-4F39-9B32-F33EF800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D8E31-3FA0-4A32-B2C2-3754AC1D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2A64B-1B0E-43FE-A376-0E7D9608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55C85-19FC-4E1D-8C19-278655C2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A20D8-2A16-4AED-9453-D034CFA5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56ED-1EE4-4B16-94FE-4017F93C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D749B-B338-4034-B2F7-CFE06391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F49FD-F484-49A4-A9F3-56AEAD21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A05E5-3B6C-4E03-AE4A-FBC4CA03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9F67B-6019-4D5D-B342-06ADA0DD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C7438-A89B-4634-BDBC-6A10770F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5FCA5-BA0B-461B-9F0B-169C8754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5E288-4BDF-43C3-9FA0-D95888C0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15229-D2D5-4BE9-AAA1-42D39A62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1DB80-889B-4F95-A34C-AF5D3E68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AF648-9377-4891-8F85-3FEF4264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BC6B-E8E4-4236-BB01-65621A3C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B6F56-8CA2-4695-9E0F-37C8CF41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1639A-A20B-4537-A167-D32FA7EC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9AD52-A6EB-4DAF-A13A-3765DCFE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585FB-AB95-4DC2-BF21-A35FE7D3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39A39-A8BB-4858-9666-0D121993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80D79-F58B-4452-A57E-354D8E82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4E60A-B944-4845-A818-2B2F9173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587A0-5D7C-4026-824C-62D0812C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44EC0-6E16-49AB-A321-7D7A5915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3A850-E6D4-4911-A54A-261CF3C9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78F-2D74-48A3-88D2-CB8FE2DE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FE413-4752-4C40-9E64-8691CF9A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33CE5-D0B1-4681-B275-1FC52618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64E46-A60F-4991-9729-FB200607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8AEF6-3D2B-4264-838C-1A195219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6A3E3-843E-48BC-B7F3-55461E5B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D01E3-7160-4DF2-A1D7-F2605006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F2FDC-E3E8-427F-9AB5-43728E1E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C6A0D-721B-4795-B734-142528D9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1AAD3-1808-4127-AA78-98AE2800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5598D-E170-4617-B642-C264215C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FDA4-0AAE-4FA9-8AC2-99A84AF4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E0F2C-CA00-4898-A5C4-F808A288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7B134-CDBE-4059-A74D-EC30D40B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97FA5-AC0B-4137-8641-B321DFCC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D9F48-F00E-4AB3-B7E4-E0CE8148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6886F-877B-4C9B-9FC7-6D827904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AFD7F-A5CE-4781-B053-B39F4CD5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8B60F-AAE4-4F4A-BB11-B4244B7B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F7E01-0128-45A0-A098-2087478A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C2C72-7FEA-41C7-AB1C-483A349E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BD667-2BA6-4B33-899F-1B4B6855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81A-A8E9-45A9-9927-69440FF5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36347-6210-4E03-AB40-F4A72991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4E063-53AE-472D-BE32-16BB2224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334C0-6D51-4E13-BBCA-301C6AA3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EFA5C-D42F-45AC-B65B-E8754ECB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CF503-667A-47A6-A9D3-9C546F3A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6C0E9-1E8C-4D9A-A3F9-298BCD7C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F68A0-A682-4DAA-9D4B-4F5C9FEE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420D2-CF9D-4734-B3A1-2D9526A9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7F8B7-9B5D-467D-BBEF-9EFEBEED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19CC2-A4E0-40D0-B5EE-DFA8FFE7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EBF-5F52-496F-816B-6B93BDE5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88336-0FB3-4033-9C84-9A4E2516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42CF0-20AF-4AA5-AA2A-5E213702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13AB0-12AF-4CE6-B417-7418CA61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DE83E-5933-450A-B2CD-C758E803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B9F69-0F10-4D3C-8A92-182B849D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B6DC8-6B2B-4C1F-8351-65756A9D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5F131-FC29-4859-B7CF-AF370189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88D30-E35B-478C-AFBA-63CCDEB4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DAF28-5EFC-4532-9213-72707897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45909-E34A-4846-832F-6A650DC9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618C-89D7-4847-A173-0AF2AC34982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D2C2-5A17-4137-87FE-C9CBE85242D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F6CC-D583-4361-B4DD-265A740C4E0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70D3-22CA-4254-A51B-2472A867D16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6272-74B8-4CE6-82FC-86F0CDC86EF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2188-1B27-44CC-9DC5-0BEF2B57162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947F-1056-4F66-9FFE-3E049CECFB1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55A7-B311-4B7F-9C86-26589964D98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7A28-77F3-4D0D-8A39-515FEC99E47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733B-B76D-4AB0-8B88-1B270447FF3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B433-EFD4-44EC-91AE-1A453B2211B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5159-3167-493F-88A6-3C8C066F8DC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1e19"/>
                </a:solidFill>
                <a:latin typeface="Arial"/>
                <a:ea typeface="Arial"/>
              </a:rPr>
              <a:t>Toplinsko širenje čvrstih tijel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4838"/>
                </a:solidFill>
                <a:latin typeface="Arial"/>
                <a:ea typeface="Arial"/>
              </a:rPr>
              <a:t>Unutarnja energija i toplin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6"/>
          <p:cNvSpPr/>
          <p:nvPr/>
        </p:nvSpPr>
        <p:spPr>
          <a:xfrm>
            <a:off x="10800" y="1295280"/>
            <a:ext cx="46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plinsko širenje tekućina - v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7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2305080" cy="3438720"/>
          </a:xfrm>
          <a:prstGeom prst="rect">
            <a:avLst/>
          </a:prstGeom>
          <a:ln w="0">
            <a:noFill/>
          </a:ln>
        </p:spPr>
      </p:pic>
      <p:sp>
        <p:nvSpPr>
          <p:cNvPr id="570" name="TextBox 8"/>
          <p:cNvSpPr/>
          <p:nvPr/>
        </p:nvSpPr>
        <p:spPr>
          <a:xfrm>
            <a:off x="3048120" y="3048120"/>
            <a:ext cx="55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Što se događa s obujmom vode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boci  pri zagrijavanju i hlađenj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Slika 5" descr=""/>
          <p:cNvPicPr/>
          <p:nvPr/>
        </p:nvPicPr>
        <p:blipFill>
          <a:blip r:embed="rId2"/>
          <a:stretch/>
        </p:blipFill>
        <p:spPr>
          <a:xfrm>
            <a:off x="380880" y="776160"/>
            <a:ext cx="13575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Box 6"/>
          <p:cNvSpPr/>
          <p:nvPr/>
        </p:nvSpPr>
        <p:spPr>
          <a:xfrm>
            <a:off x="33120" y="1295280"/>
            <a:ext cx="592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isnost toplinskog širenja o vrsti tekuć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6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3124080" cy="3608640"/>
          </a:xfrm>
          <a:prstGeom prst="rect">
            <a:avLst/>
          </a:prstGeom>
          <a:ln w="0">
            <a:noFill/>
          </a:ln>
        </p:spPr>
      </p:pic>
      <p:sp>
        <p:nvSpPr>
          <p:cNvPr id="574" name="TextBox 8"/>
          <p:cNvSpPr/>
          <p:nvPr/>
        </p:nvSpPr>
        <p:spPr>
          <a:xfrm>
            <a:off x="3733920" y="4800600"/>
            <a:ext cx="43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sporedi toplinsk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irenj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dviju različit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kuć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6" descr="toplomjer"/>
          <p:cNvPicPr/>
          <p:nvPr/>
        </p:nvPicPr>
        <p:blipFill>
          <a:blip r:embed="rId2"/>
          <a:stretch/>
        </p:blipFill>
        <p:spPr>
          <a:xfrm>
            <a:off x="5943600" y="1523880"/>
            <a:ext cx="2990880" cy="2990880"/>
          </a:xfrm>
          <a:prstGeom prst="rect">
            <a:avLst/>
          </a:prstGeom>
          <a:ln w="0">
            <a:noFill/>
          </a:ln>
        </p:spPr>
      </p:pic>
      <p:pic>
        <p:nvPicPr>
          <p:cNvPr id="576" name="Slika 6" descr=""/>
          <p:cNvPicPr/>
          <p:nvPr/>
        </p:nvPicPr>
        <p:blipFill>
          <a:blip r:embed="rId3"/>
          <a:stretch/>
        </p:blipFill>
        <p:spPr>
          <a:xfrm>
            <a:off x="380880" y="828720"/>
            <a:ext cx="13575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b1e19"/>
                </a:solidFill>
                <a:latin typeface="Arial"/>
                <a:ea typeface="Arial"/>
              </a:rPr>
              <a:t>Toplinsko </a:t>
            </a:r>
            <a:r>
              <a:rPr b="0" lang="en-US" sz="3200" spc="-1" strike="noStrike">
                <a:solidFill>
                  <a:srgbClr val="fb1e19"/>
                </a:solidFill>
                <a:latin typeface="Arial"/>
                <a:ea typeface="Arial"/>
              </a:rPr>
              <a:t>širenje</a:t>
            </a:r>
            <a:r>
              <a:rPr b="0" lang="hr-HR" sz="3200" spc="-1" strike="noStrike">
                <a:solidFill>
                  <a:srgbClr val="fb1e19"/>
                </a:solidFill>
                <a:latin typeface="Arial"/>
                <a:ea typeface="Arial"/>
              </a:rPr>
              <a:t> tekući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3"/>
          <p:cNvSpPr/>
          <p:nvPr/>
        </p:nvSpPr>
        <p:spPr>
          <a:xfrm>
            <a:off x="533520" y="14479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i zagrijavanju se tekući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ir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 pri hlađenju stež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zličite tekućine različito se š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2"/>
              <p:cNvSpPr txBox="1"/>
              <p:nvPr/>
            </p:nvSpPr>
            <p:spPr>
              <a:xfrm>
                <a:off x="990720" y="3505320"/>
                <a:ext cx="144288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TextBox 5"/>
          <p:cNvSpPr/>
          <p:nvPr/>
        </p:nvSpPr>
        <p:spPr>
          <a:xfrm>
            <a:off x="3151080" y="3581280"/>
            <a:ext cx="5094000" cy="1191240"/>
          </a:xfrm>
          <a:prstGeom prst="rect">
            <a:avLst/>
          </a:prstGeom>
          <a:solidFill>
            <a:srgbClr val="f2dcdb"/>
          </a:solidFill>
          <a:ln w="324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 porastom temperature smanj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e gustoća tekućine. Masa je stal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68112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b1e19"/>
                </a:solidFill>
                <a:latin typeface="Arial"/>
                <a:ea typeface="Arial"/>
              </a:rPr>
              <a:t>Anomalija vod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3"/>
          <p:cNvSpPr/>
          <p:nvPr/>
        </p:nvSpPr>
        <p:spPr>
          <a:xfrm>
            <a:off x="1950480" y="1500120"/>
            <a:ext cx="5132160" cy="1191240"/>
          </a:xfrm>
          <a:prstGeom prst="rect">
            <a:avLst/>
          </a:prstGeom>
          <a:solidFill>
            <a:srgbClr val="f2dcdb"/>
          </a:solidFill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grijavanjem vode od 0° C do 4° 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jezin se obujam smanju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4"/>
          <p:cNvSpPr/>
          <p:nvPr/>
        </p:nvSpPr>
        <p:spPr>
          <a:xfrm>
            <a:off x="1923480" y="5715000"/>
            <a:ext cx="50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oda ima najveću gustoću pri 4 °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2714760" y="2786040"/>
            <a:ext cx="318456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7112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b1e19"/>
                </a:solidFill>
                <a:latin typeface="Arial"/>
                <a:ea typeface="Arial"/>
              </a:rPr>
              <a:t>Toplinsko širenje plino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4"/>
          <p:cNvSpPr/>
          <p:nvPr/>
        </p:nvSpPr>
        <p:spPr>
          <a:xfrm>
            <a:off x="914400" y="17524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grijavanjem se plin širi, a pri hlađenju stež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4"/>
          <p:cNvSpPr/>
          <p:nvPr/>
        </p:nvSpPr>
        <p:spPr>
          <a:xfrm>
            <a:off x="838080" y="3352680"/>
            <a:ext cx="7239240" cy="1191240"/>
          </a:xfrm>
          <a:prstGeom prst="rect">
            <a:avLst/>
          </a:prstGeom>
          <a:noFill/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irenje plinova s porastom temperature mnogo je veće nego širenje tekuć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Box 3"/>
          <p:cNvSpPr/>
          <p:nvPr/>
        </p:nvSpPr>
        <p:spPr>
          <a:xfrm>
            <a:off x="-182880" y="1676520"/>
            <a:ext cx="96494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O čemu ovisi toplinsko širenje tije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kva je razlika između toplinskog širenja tekućina, plinova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čvrstih tije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3.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ko se porastom temperature tekućine mijenja njezina gustoć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ako se tlak plina mijenja porastom temperatu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ašto je temperaturna anomalija vode važna u prirod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Slika 2" descr=""/>
          <p:cNvPicPr/>
          <p:nvPr/>
        </p:nvPicPr>
        <p:blipFill>
          <a:blip r:embed="rId1"/>
          <a:stretch/>
        </p:blipFill>
        <p:spPr>
          <a:xfrm>
            <a:off x="457200" y="927000"/>
            <a:ext cx="320040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Box 4"/>
          <p:cNvSpPr/>
          <p:nvPr/>
        </p:nvSpPr>
        <p:spPr>
          <a:xfrm>
            <a:off x="380880" y="144792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se žice dalekovoda ljeti izgledom razlikuju od onih zim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ohlađena staklena boca pukne kad u nju ulijemo vrelu vod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245040" cy="4572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29718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6"/>
          <p:cNvSpPr/>
          <p:nvPr/>
        </p:nvSpPr>
        <p:spPr>
          <a:xfrm>
            <a:off x="24840" y="1295280"/>
            <a:ext cx="38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grijavanje metalne ku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0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2286000" cy="20764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1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2278080" cy="2057400"/>
          </a:xfrm>
          <a:prstGeom prst="rect">
            <a:avLst/>
          </a:prstGeom>
          <a:ln w="0">
            <a:noFill/>
          </a:ln>
        </p:spPr>
      </p:pic>
      <p:sp>
        <p:nvSpPr>
          <p:cNvPr id="550" name="TextBox 8"/>
          <p:cNvSpPr/>
          <p:nvPr/>
        </p:nvSpPr>
        <p:spPr>
          <a:xfrm>
            <a:off x="762120" y="487692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Što se događa s obujmom željezne kugle pri zagrijavanju i hlađenj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Slika 6" descr=""/>
          <p:cNvPicPr/>
          <p:nvPr/>
        </p:nvPicPr>
        <p:blipFill>
          <a:blip r:embed="rId3"/>
          <a:stretch/>
        </p:blipFill>
        <p:spPr>
          <a:xfrm>
            <a:off x="304920" y="765000"/>
            <a:ext cx="13572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b1e19"/>
                </a:solidFill>
                <a:latin typeface="Arial"/>
                <a:ea typeface="Arial"/>
              </a:rPr>
              <a:t>Toplinsko širenje čvrstih tije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3"/>
          <p:cNvSpPr/>
          <p:nvPr/>
        </p:nvSpPr>
        <p:spPr>
          <a:xfrm>
            <a:off x="614160" y="1828800"/>
            <a:ext cx="57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bujam čvrstih tijela od želj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većava se  povišenjem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manjuje se pri snižavanju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3"/>
          <p:cNvSpPr/>
          <p:nvPr/>
        </p:nvSpPr>
        <p:spPr>
          <a:xfrm>
            <a:off x="612720" y="685800"/>
            <a:ext cx="606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b1e19"/>
                </a:solidFill>
                <a:latin typeface="Arial"/>
                <a:ea typeface="Arial"/>
              </a:rPr>
              <a:t>Toplinsko </a:t>
            </a:r>
            <a:r>
              <a:rPr b="0" lang="en-US" sz="2400" spc="-1" strike="noStrike">
                <a:solidFill>
                  <a:srgbClr val="fb1e19"/>
                </a:solidFill>
                <a:latin typeface="Arial"/>
                <a:ea typeface="Arial"/>
              </a:rPr>
              <a:t>širenje</a:t>
            </a:r>
            <a:r>
              <a:rPr b="0" lang="hr-HR" sz="2400" spc="-1" strike="noStrike">
                <a:solidFill>
                  <a:srgbClr val="fb1e19"/>
                </a:solidFill>
                <a:latin typeface="Arial"/>
                <a:ea typeface="Arial"/>
              </a:rPr>
              <a:t> nekog tijela</a:t>
            </a:r>
            <a:r>
              <a:rPr b="0" lang="en-US" sz="2400" spc="-1" strike="noStrike">
                <a:solidFill>
                  <a:srgbClr val="fb1e19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će je što je veće povišenje temperatur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će je što je tijelo veće duljin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isi i o vrsti materijal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905120" y="3124080"/>
          <a:ext cx="5333760" cy="292572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</a:tblGrid>
              <a:tr h="3661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ljenje tijela duljine 1 m pri zagrijavanju za 1 °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j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ljen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6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4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k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7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jez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2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2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9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Box 8"/>
          <p:cNvSpPr/>
          <p:nvPr/>
        </p:nvSpPr>
        <p:spPr>
          <a:xfrm>
            <a:off x="543240" y="1214280"/>
            <a:ext cx="8395200" cy="459720"/>
          </a:xfrm>
          <a:prstGeom prst="rect">
            <a:avLst/>
          </a:prstGeom>
          <a:solidFill>
            <a:srgbClr val="f2dcdb"/>
          </a:solidFill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iša temperatura – jače nasumično titranje  molekula u tijel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5715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"/>
          <p:cNvPicPr/>
          <p:nvPr/>
        </p:nvPicPr>
        <p:blipFill>
          <a:blip r:embed="rId1"/>
          <a:srcRect l="0" t="22514" r="0" b="21118"/>
          <a:stretch/>
        </p:blipFill>
        <p:spPr>
          <a:xfrm>
            <a:off x="152280" y="990720"/>
            <a:ext cx="1817640" cy="457200"/>
          </a:xfrm>
          <a:prstGeom prst="rect">
            <a:avLst/>
          </a:prstGeom>
          <a:ln w="0">
            <a:noFill/>
          </a:ln>
        </p:spPr>
      </p:pic>
      <p:sp>
        <p:nvSpPr>
          <p:cNvPr id="559" name="TextBox 5"/>
          <p:cNvSpPr/>
          <p:nvPr/>
        </p:nvSpPr>
        <p:spPr>
          <a:xfrm>
            <a:off x="838080" y="17146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pravi jednostavnu “bimetalnu” traku 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luminijske folije i papira te ispitaj učin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oplinskog rastezan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1695600" cy="27640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bimetalni termostat"/>
          <p:cNvPicPr/>
          <p:nvPr/>
        </p:nvPicPr>
        <p:blipFill>
          <a:blip r:embed="rId3"/>
          <a:stretch/>
        </p:blipFill>
        <p:spPr>
          <a:xfrm>
            <a:off x="838080" y="3124080"/>
            <a:ext cx="3124440" cy="312444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6"/>
          <p:cNvSpPr/>
          <p:nvPr/>
        </p:nvSpPr>
        <p:spPr>
          <a:xfrm>
            <a:off x="1046880" y="5519880"/>
            <a:ext cx="222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Bimetalni termostat 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električna glačala uključuj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sključuje struju prema grijač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1e19"/>
                </a:solidFill>
                <a:latin typeface="Arial"/>
                <a:ea typeface="Arial"/>
              </a:rPr>
              <a:t>Toplinsko širenje </a:t>
            </a:r>
            <a:br>
              <a:rPr sz="4400"/>
            </a:br>
            <a:r>
              <a:rPr b="1" lang="en-US" sz="4400" spc="-1" strike="noStrike">
                <a:solidFill>
                  <a:srgbClr val="fb1e19"/>
                </a:solidFill>
                <a:latin typeface="Arial"/>
                <a:ea typeface="Arial"/>
              </a:rPr>
              <a:t> tekući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4838"/>
                </a:solidFill>
                <a:latin typeface="Arial"/>
                <a:ea typeface="Arial"/>
              </a:rPr>
              <a:t>Unutarnja energija i toplin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Box 4"/>
          <p:cNvSpPr/>
          <p:nvPr/>
        </p:nvSpPr>
        <p:spPr>
          <a:xfrm>
            <a:off x="380880" y="144792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se voda u morima i rijekama zimi smrzava najprije na površi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je to važno za život u vod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245040" cy="4572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"/>
          <p:cNvPicPr/>
          <p:nvPr/>
        </p:nvPicPr>
        <p:blipFill>
          <a:blip r:embed="rId2"/>
          <a:stretch/>
        </p:blipFill>
        <p:spPr>
          <a:xfrm>
            <a:off x="3429000" y="3352680"/>
            <a:ext cx="34574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2:31Z</dcterms:created>
  <dc:creator>Slavko</dc:creator>
  <dc:description/>
  <dc:language>en-US</dc:language>
  <cp:lastModifiedBy>Tomislav Dumančić</cp:lastModifiedBy>
  <dcterms:modified xsi:type="dcterms:W3CDTF">2019-09-17T08:49:58Z</dcterms:modified>
  <cp:revision>28</cp:revision>
  <dc:subject/>
  <dc:title>Slide 1</dc:title>
</cp:coreProperties>
</file>